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753-BCE6-4034-9036-BDB97E34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502-FB72-42DC-9348-66759D0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E14-D5D7-4123-94FC-AC9C86F0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084-F85C-4191-97E5-8DE2387B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923-BEB3-4DF9-A99B-86DFCF50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97E-B460-42BF-AD2B-B5370B62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EEF-6FAB-41F7-9F85-A097F1EB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6CB-CCDF-4640-B85A-509942A2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7F5-EFF6-4A86-8A13-175D3550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2CE-589F-4378-9C7E-A1908E5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EC3-A0FE-43A2-A974-6CF751A7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505-97F1-4491-93B7-211E579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E88-9E68-4F4E-B78B-75DA1968A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0" y="485784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30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0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" y="6317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076720" y="1197000"/>
                <a:ext cx="719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03280" y="1700280"/>
                <a:ext cx="2232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867280" y="2133720"/>
                <a:ext cx="15130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0" y="4164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3429000"/>
                <a:ext cx="1873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79280" y="4941720"/>
                <a:ext cx="7488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z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yz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36560" y="5516640"/>
                <a:ext cx="7416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z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y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-441360" y="620280"/>
            <a:ext cx="958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задач строительства, картографии и баллистики выросла аналитическая геоме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ой науке мы сталкиваемся с матрицами и операциями над ни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1.  Объем параллелограмма, построенного 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2160" y="1619640"/>
            <a:ext cx="53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43720" y="242028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авой декартовой прямоугольной системе координа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76040" y="3357000"/>
            <a:ext cx="51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2. Пересечение двух прямых на плоскос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91880" y="4364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3. Общее уравнение поверхности второго поряд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0" y="562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42840" y="609228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ческая квадратичная фор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24280" y="24922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пределител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720" y="-720"/>
            <a:ext cx="76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ешение систем линейных алгебраических уравнений. Метод Гау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0" y="55008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. Для строк матрицы Â(2) выполняем сложение с 1-ой строк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 Уберем 1-ую строку и 1-ый столбец, тем самым понижаем ранг матрицы на 1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 Переходим к пункту 1 с матрицей А(2), если в матрице А(2) более одного элемента, в противном случае – к пункту 9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. Строим итоговую треугольную матрицу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Х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 в вид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вязь с определител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ыпишите 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762120" y="380880"/>
                <a:ext cx="14475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1602000" y="4564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&gt;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048120" y="457200"/>
                <a:ext cx="12031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800" y="278028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62120" y="762120"/>
                <a:ext cx="14475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1800" y="33426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24080" y="914400"/>
                <a:ext cx="9907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4116600" y="9136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952880" y="457200"/>
                <a:ext cx="9129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0" y="48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85800" y="1676520"/>
                <a:ext cx="1066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1677960" y="17056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209680" y="1676520"/>
                <a:ext cx="11430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1800" y="328356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66880" y="2784600"/>
                <a:ext cx="12193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800" y="37886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76920" y="2590920"/>
                <a:ext cx="1218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20" y="452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43000" y="3429000"/>
                <a:ext cx="20718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9880" y="3429000"/>
                <a:ext cx="1371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791320" y="3352680"/>
                <a:ext cx="90000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0" y="4876920"/>
            <a:ext cx="82296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. Находим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есть элементы итоговых матрицы          и столб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38080" y="5334120"/>
                <a:ext cx="876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057400" y="5291280"/>
                <a:ext cx="22860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j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962520" y="6248520"/>
                <a:ext cx="2286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181480" y="6172200"/>
                <a:ext cx="231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d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нтроль расчетов по методу Гау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меняем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 на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1), т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олняем ход метода Гаусса для В и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каждом этапе свойство (*) В сохран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– не очень большое число р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ценка погрешности результа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и более реальный столбец, если известен порядок и знак компонент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римере метода исключения Гаусса хорошо видна особенность прямых методов – конечное число опера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30760" y="242136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3520" y="1341360"/>
                <a:ext cx="97452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059360" y="29455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676520" y="1341360"/>
                <a:ext cx="64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2413080" y="13406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581280" y="1143000"/>
                <a:ext cx="15717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878720" y="12945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492360" y="1773360"/>
                <a:ext cx="1526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676520" y="2590920"/>
                <a:ext cx="1855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57200" y="4359240"/>
                <a:ext cx="990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z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 flipV="1">
            <a:off x="826920" y="4868640"/>
            <a:ext cx="24768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234144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5440" y="4932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00000" y="2133720"/>
                <a:ext cx="3024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26920" y="3068640"/>
                <a:ext cx="863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5280" y="3573360"/>
                <a:ext cx="1728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95280" y="3933720"/>
                <a:ext cx="1584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5280" y="4724280"/>
                <a:ext cx="792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042920" y="515772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4000" y="5516640"/>
                <a:ext cx="2232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-6840" y="115920"/>
            <a:ext cx="897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поверхности второго порядка можно определ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аметральная плоско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й поверхности, сопряженная параллельным хорда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ое мест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 этих хор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амет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пряженный семейству плоскостей, параллельных сопряженным хордам дв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х диаметральных плоскостей – прямая, по которой пересекаются 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етральные плоск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+ поворот осей координат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304632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280" y="306792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равляющи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вых о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0000" y="34995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вый центр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3120" y="422028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вариант относительно переноса и поворо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640" y="50839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93680" y="5083920"/>
            <a:ext cx="82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все диаметры пересекаются в одной точке – центре поверхности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6200" y="580464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цен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8560" y="64904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(необходимо решить систему линейных уравн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651640" y="549360"/>
                <a:ext cx="36036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083440" y="549360"/>
                <a:ext cx="90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Ω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00720" y="836640"/>
                <a:ext cx="358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9280" y="15573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0920" y="3284640"/>
                <a:ext cx="318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79280" y="3716280"/>
                <a:ext cx="43200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55640" y="3933720"/>
                <a:ext cx="3168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/>
                      <m:sup>
                        <m:r>
                          <m:t xml:space="preserve">n</m:t>
                        </m:r>
                        <m:r>
                          <m:t xml:space="preserve">!</m:t>
                        </m:r>
                      </m:sup>
                      <m:e>
                        <m:r>
                          <m:t xml:space="preserve">±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α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γ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340000" y="5300640"/>
                <a:ext cx="1008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…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-5400" y="188280"/>
            <a:ext cx="57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“определитель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станов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становка): замена каждого элемен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1280" y="4755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элемен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520" y="7642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ы получаться все элемент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5840" y="764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лько один раз; т.е. это взаим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7320" y="1484280"/>
            <a:ext cx="7697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которое конечное множество (далее рассматриваем только так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 множестве определено старшинство элементов, 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ществует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версия перестанов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рушение порядка при перестан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ло инверс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(число) нарушений порядка при перестан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тность перестанов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етность числа инвер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их понятий вводится понятие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960" y="3357000"/>
            <a:ext cx="37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рядок квадратной матр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2772360" y="498996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9360" y="4581000"/>
            <a:ext cx="85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ногочлен из элементов, каждое слагаемое которого является произведение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ов, взятых по одному из каждой строки и каждого столбца; т.е. это сумма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ерестановка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560" y="616500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слагаемого “+ “, если перестановка ч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4320" y="112464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днозначное отображение множества на себ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37960" y="477720"/>
                <a:ext cx="113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9280" y="836640"/>
                <a:ext cx="107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47640" y="836640"/>
                <a:ext cx="2192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9280" y="1268280"/>
                <a:ext cx="9367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8000" y="1268280"/>
                <a:ext cx="2145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05000" y="1197000"/>
                <a:ext cx="557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81360" y="1197000"/>
                <a:ext cx="557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2360" y="1268280"/>
                <a:ext cx="57636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211640" y="1268280"/>
                <a:ext cx="9367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2280" y="1752480"/>
                <a:ext cx="1052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8760" y="2362320"/>
                <a:ext cx="2584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63840" y="2362320"/>
                <a:ext cx="2808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79280" y="3505320"/>
                <a:ext cx="2089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q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/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5029200"/>
                <a:ext cx="720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4952880"/>
                <a:ext cx="14097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75600" y="8964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йства определител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737360" y="-19994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38800" y="-114552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0240" y="764280"/>
            <a:ext cx="60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 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еной местами двух строк (столбц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560" y="119628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737360" y="65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33200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737720" y="19292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1737360" y="24343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560" y="1218600"/>
            <a:ext cx="40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порциональность строк/столбц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20800" y="1766160"/>
            <a:ext cx="52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щий множитель какой-либо строки/столб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27421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2200" y="4419000"/>
            <a:ext cx="79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авить соответствующие элементы другой строки/столбца, умноженные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льный коэффици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4480" y="5028480"/>
            <a:ext cx="32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треугольная матрица), т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2800" y="50284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е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36760" y="373320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определитель не изменится, если к одной строке/столбц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000" y="5028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Ес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4000" y="476280"/>
                <a:ext cx="151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549360"/>
                <a:ext cx="316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16720" y="549360"/>
                <a:ext cx="295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1143000"/>
                <a:ext cx="18399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0920" y="1628640"/>
                <a:ext cx="433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635280" y="1557360"/>
                <a:ext cx="289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0920" y="1989000"/>
                <a:ext cx="3603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4000" y="3500280"/>
                <a:ext cx="1276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52280" y="4861080"/>
                <a:ext cx="1752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ra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095880" y="5029200"/>
                <a:ext cx="1752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!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79280" y="5715000"/>
                <a:ext cx="3603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65520" y="75600"/>
            <a:ext cx="70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й случай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оремы Лаплас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вычислении определителя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216684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1840" y="548640"/>
            <a:ext cx="40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гебраическое дополнение эле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280" y="112464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19708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7840" y="155664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гебраическое дополн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21668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560" y="2230200"/>
            <a:ext cx="89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ино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о порядка – определитель матрицы, образованной из элемен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оящих на пересече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бцов, с сохранением их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*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жно не давать)  Алгебраическое дополнение минор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ри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414936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ополнительный минор 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изведений при вычислении определител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8600" y="504288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й в каждом слагаем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2166840" y="69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3960" y="5637960"/>
            <a:ext cx="62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задач линейной алгебры – вычисление определ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1915560"/>
            <a:ext cx="24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инор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1)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451640" y="3068640"/>
                <a:ext cx="936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97200" y="3428640"/>
            <a:ext cx="36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омера строк 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номера столбцов 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765000"/>
                <a:ext cx="647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50920" y="836640"/>
                <a:ext cx="1954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716360" y="620640"/>
                <a:ext cx="935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796000" y="836640"/>
                <a:ext cx="8636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0920" y="1268280"/>
                <a:ext cx="285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1773360"/>
                <a:ext cx="208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*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27280" y="1989000"/>
                <a:ext cx="79236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0920" y="2565360"/>
                <a:ext cx="385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297180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632560" y="3141720"/>
                <a:ext cx="11491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5,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47640" y="3716280"/>
                <a:ext cx="776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-6120" y="532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другая задача – решение системы линейных уравн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? – эту задачу называют первой задачей линейной алгеб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764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5480" y="7642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ение системы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510480" y="7704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280" y="76428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Крам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760" y="1267560"/>
            <a:ext cx="40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ена элементо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о столбца 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12640" y="30391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0000" y="1915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0200" y="256464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гебраическое до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96000" y="314100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560" y="37155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задачи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0040" y="4149000"/>
            <a:ext cx="67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задача линейной алгебры (поиск собственных знач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0360" y="764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8560" y="314100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оптимистичная оценка числа опер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50920" y="4221000"/>
                <a:ext cx="20160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λ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?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78920" y="458064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бственных век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1840" y="508392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е задачи связаны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39640" y="620640"/>
                <a:ext cx="863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763640" y="692280"/>
                <a:ext cx="5749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700360" y="1125360"/>
                <a:ext cx="576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9280" y="1916280"/>
                <a:ext cx="576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0" y="2979720"/>
                <a:ext cx="342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0" y="3797280"/>
                <a:ext cx="93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19280" y="4149720"/>
                <a:ext cx="30290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den>
                    </m:f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835280" y="5589720"/>
                <a:ext cx="10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332000" y="6237360"/>
                <a:ext cx="10810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022560" y="1155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79280" y="836640"/>
            <a:ext cx="2629080" cy="915840"/>
            <a:chOff x="179280" y="836640"/>
            <a:chExt cx="2629080" cy="915840"/>
          </a:xfrm>
        </p:grpSpPr>
        <p:sp>
          <p:nvSpPr>
            <p:cNvPr id="197" name=""/>
            <p:cNvSpPr/>
            <p:nvPr/>
          </p:nvSpPr>
          <p:spPr>
            <a:xfrm flipV="1">
              <a:off x="179280" y="8366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280" y="1752480"/>
              <a:ext cx="26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07880" y="983520"/>
              <a:ext cx="6858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6480" y="893520"/>
              <a:ext cx="1141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979200" y="1148400"/>
              <a:ext cx="10285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093320" y="1008000"/>
              <a:ext cx="68580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893960" y="128700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779480" y="1172520"/>
              <a:ext cx="7999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560" y="43920"/>
            <a:ext cx="63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первую задачу линейной алгеб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е двух прямых на плоскости, возможны 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-77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09480" y="619920"/>
            <a:ext cx="51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стойчивость к погрешности входн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7400" y="913680"/>
            <a:ext cx="32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лохо обусловленна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сте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3120" y="1843920"/>
            <a:ext cx="62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обходимый признак обусловленности, но не достаточны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40" y="3032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1720" y="256464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ло обусловлен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3123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гда это произведение называют числом обусловленност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9640" y="374724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рошая обусло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551592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ешност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280" y="61650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яз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95480"/>
            <a:ext cx="9144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79280" y="2228760"/>
                <a:ext cx="34783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εE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443628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практ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657600" y="3127320"/>
                <a:ext cx="826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42920" y="115920"/>
                <a:ext cx="1440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9280" y="981000"/>
                <a:ext cx="29736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Δb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0920" y="1484280"/>
                <a:ext cx="46083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b</m:t>
                                    </m:r>
                                  </m:e>
                                </m:d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b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508720" y="1484280"/>
                <a:ext cx="718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411280" y="2133720"/>
                <a:ext cx="201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b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79280" y="2781360"/>
                <a:ext cx="23288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68360" y="3068640"/>
                <a:ext cx="20160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ΔA</m:t>
                    </m:r>
                    <m:r>
                      <m:t xml:space="preserve">)</m:t>
                    </m:r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A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68360" y="3357720"/>
                <a:ext cx="20890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Δ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ΔA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0920" y="3573360"/>
                <a:ext cx="58338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Δ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ΔA</m:t>
                    </m:r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A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A</m:t>
                            </m:r>
                          </m:e>
                        </m:d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5280" y="3933720"/>
                <a:ext cx="3240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 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Δx</m:t>
                                        </m:r>
                                      </m:e>
                                    </m:d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groupCh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A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4000" y="4724280"/>
                <a:ext cx="720072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A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  <m:r>
                          <m:t xml:space="preserve">⇔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A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≥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A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A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A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ΔA</m:t>
                                        </m:r>
                                      </m:e>
                                    </m:d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ΔA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5364000" y="155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640" y="-720"/>
            <a:ext cx="6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3320" y="75600"/>
            <a:ext cx="84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ни не обязательно одновременно ма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числа обусловленности можно установить связ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3040" y="8467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133200" y="253260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3040" y="4088160"/>
            <a:ext cx="4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086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86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17000" y="480600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117360" y="529164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114480" y="59022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114480" y="6616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4480" y="794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248520" y="38088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: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3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оиск максимального по модулю внедиагонального элемента из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Перестановка столбцов таким образом, чтобы этот элемент оказался в 1-ом столбце; учет числа перестано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Перестановка строк таким образом, чтобы этот элемент оказался в 1-ой строке, на месте (1;1); учет числа перестан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Для элементов матрицы                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 Для элементов матрицы                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&gt;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971800" y="196920"/>
                <a:ext cx="9144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800" y="2939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86000" y="3124080"/>
                <a:ext cx="76212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352680" y="3124080"/>
                <a:ext cx="15811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800" y="36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276640" y="3470400"/>
                <a:ext cx="61884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62120" y="3781440"/>
                <a:ext cx="823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225360" y="19897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763640" y="3876840"/>
                <a:ext cx="6746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25720" y="253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590920" y="3886200"/>
                <a:ext cx="7887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→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657600" y="3733920"/>
                <a:ext cx="843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26440" y="40950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257800" y="3809880"/>
                <a:ext cx="2133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486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62120" y="4390920"/>
                <a:ext cx="823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535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38480" y="4986360"/>
                <a:ext cx="657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5610240"/>
                <a:ext cx="1471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1080" y="3023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68360" y="5629320"/>
                <a:ext cx="5511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080" y="3566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987640" y="5572080"/>
                <a:ext cx="1127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730680" y="2404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267080" y="5334120"/>
                <a:ext cx="10670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730680" y="3412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486400" y="5410080"/>
                <a:ext cx="2209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729960" y="4192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62120" y="6058080"/>
                <a:ext cx="15382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29320" y="1522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Га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8480" y="152280"/>
            <a:ext cx="7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057400" y="493560"/>
                <a:ext cx="647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665080" y="47088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еугольная матри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184720" y="76320"/>
                <a:ext cx="1368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±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6080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лемент на главной диагонали 0, то перестановкой строк его заменяют на ненулевой (ненулевой элемент всегда найдется, инач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2495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сли элемент на главной диагонали мал, то будут велики ошибки округления, поэтому цик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го х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ют с перестановки на главную диагонал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а из исключаемого столбца – метод Гаусса с выбором главного эле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209680" y="106668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8:46:37Z</dcterms:created>
  <dc:creator>Галя</dc:creator>
  <dc:description/>
  <dc:language>en-US</dc:language>
  <cp:lastModifiedBy>user</cp:lastModifiedBy>
  <dcterms:modified xsi:type="dcterms:W3CDTF">2002-12-08T22:44:59Z</dcterms:modified>
  <cp:revision>26</cp:revision>
  <dc:subject/>
  <dc:title>Слайд 1</dc:title>
</cp:coreProperties>
</file>